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22D-1A73-460A-9937-B2078966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B577-BDD5-487C-B14E-9412C4E1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B2C-5AA7-4245-89FD-A864F2E6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085-3C49-4C5D-A644-8660857E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EF2-1ACE-48AA-B03C-627099B4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216-C000-42B6-9891-F53879F2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64D-19BE-479F-AE0B-BC619E99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108-AE8A-4ECB-85E2-D24DD37B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FBD-B0EB-48CB-8BCF-E134E5ED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DE3-20F8-403E-8820-C582D299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FE2-4D03-454D-AD20-F71FB20C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8B91-C076-48D0-B3DD-8E01794B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D9ED-48E3-4776-8CD6-80F9EB49A7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360" y="-9360"/>
            <a:ext cx="91627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50400" y="1483920"/>
            <a:ext cx="78692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Participación juvenil en el siglo XX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a) La participación de los jóvenes y las reivindicaciones estudianti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b) La participación de los jóvenes en los movimientos políticos, sociales, ambientales y religios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c) La participación de los jóvenes en los movimientos cultur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Narrow"/>
              </a:rPr>
              <a:t>d) La participación de los jóvenes en las luchas por los derechos humano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3504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ff9933"/>
                </a:solidFill>
                <a:latin typeface="Gastada"/>
              </a:rPr>
              <a:t>Eje de trabajo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828720" y="1413000"/>
            <a:ext cx="7704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 u="sng">
                <a:solidFill>
                  <a:srgbClr val="ffffff"/>
                </a:solidFill>
                <a:uFillTx/>
                <a:latin typeface="Arial Narrow"/>
              </a:rPr>
              <a:t>La participación estudiantil y las concepciones pedagó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 Narrow"/>
              </a:rPr>
              <a:t>a) Recuperación de experiencias pedagógicas disruptivas o alternativas (formales o no formales)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 Narrow"/>
              </a:rPr>
              <a:t>b) La participación de los estudiantes según las concepciones pedagógic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 Narrow"/>
              </a:rPr>
              <a:t>c) Imaginando una escuela diferente.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 Narrow"/>
              </a:rPr>
              <a:t>d) Historias de vida de estudiantes y doc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3504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ff9933"/>
                </a:solidFill>
                <a:latin typeface="Gastada"/>
              </a:rPr>
              <a:t>Eje de trabajo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979640" y="1671480"/>
            <a:ext cx="51847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400" spc="-1" strike="noStrike">
                <a:solidFill>
                  <a:srgbClr val="ffffff"/>
                </a:solidFill>
                <a:latin typeface="Arial Narrow"/>
              </a:rPr>
              <a:t>Internacional - Nacional - Loc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74920" y="2922480"/>
            <a:ext cx="641016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ffffff"/>
                </a:solidFill>
                <a:latin typeface="Arial Narrow"/>
              </a:rPr>
              <a:t>Monografía, ensayos o crónic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ffffff"/>
                </a:solidFill>
                <a:latin typeface="Arial Narrow"/>
              </a:rPr>
              <a:t>Foto-epígraf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ffffff"/>
                </a:solidFill>
                <a:latin typeface="Arial Narrow"/>
              </a:rPr>
              <a:t>Cine-vide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ffffff"/>
                </a:solidFill>
                <a:latin typeface="Arial Narrow"/>
              </a:rPr>
              <a:t>Propuesta teatr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3504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ff9933"/>
                </a:solidFill>
                <a:latin typeface="Gastada"/>
              </a:rPr>
              <a:t>Niveles y forma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519120" y="1846080"/>
            <a:ext cx="822960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 Narrow"/>
              </a:rPr>
              <a:t>Elaboración y envío de proyectos: </a:t>
            </a:r>
            <a:r>
              <a:rPr b="1" lang="es-AR" sz="2800" spc="-1" strike="noStrike">
                <a:solidFill>
                  <a:srgbClr val="ffa953"/>
                </a:solidFill>
                <a:latin typeface="Arial Narrow"/>
              </a:rPr>
              <a:t>hasta el 16/10/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 Narrow"/>
              </a:rPr>
              <a:t>Selección de Proyectos: </a:t>
            </a:r>
            <a:r>
              <a:rPr b="1" lang="es-AR" sz="2800" spc="-1" strike="noStrike">
                <a:solidFill>
                  <a:srgbClr val="ffa953"/>
                </a:solidFill>
                <a:latin typeface="Arial Narrow"/>
              </a:rPr>
              <a:t>del 16/10/09 al 10/11/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 Narrow"/>
              </a:rPr>
              <a:t>Publicación de resultados: </a:t>
            </a:r>
            <a:r>
              <a:rPr b="1" lang="es-AR" sz="2800" spc="-1" strike="noStrike">
                <a:solidFill>
                  <a:srgbClr val="ffa953"/>
                </a:solidFill>
                <a:latin typeface="Arial Narrow"/>
              </a:rPr>
              <a:t>a partir del 11/11/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 Narrow"/>
              </a:rPr>
              <a:t>Ejecución de las propuestas: </a:t>
            </a:r>
            <a:r>
              <a:rPr b="1" lang="es-AR" sz="2800" spc="-1" strike="noStrike">
                <a:solidFill>
                  <a:srgbClr val="ffa953"/>
                </a:solidFill>
                <a:latin typeface="Arial Narrow"/>
              </a:rPr>
              <a:t>del 15/11/09 al 15/04/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s-AR" sz="2800" spc="-1" strike="noStrike">
                <a:solidFill>
                  <a:srgbClr val="ffffff"/>
                </a:solidFill>
                <a:latin typeface="Arial Narrow"/>
              </a:rPr>
              <a:t>ENCUENTRO NACIONAL Y ENTREGA DE PREM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a953"/>
                </a:solidFill>
                <a:latin typeface="Arial Narrow"/>
              </a:rPr>
              <a:t>(fecha a confir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3504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ff9933"/>
                </a:solidFill>
                <a:latin typeface="Gastada"/>
              </a:rPr>
              <a:t>Cronogram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9360" y="-9360"/>
            <a:ext cx="9162720" cy="68785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99640" y="980640"/>
            <a:ext cx="7417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ffff"/>
                </a:solidFill>
                <a:latin typeface="Arial Narrow"/>
              </a:rPr>
              <a:t>¿Cómo  formar docentes, ciudadanos activos si no reconocemos sus derechos a participar en el present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0320" y="60660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Arial"/>
              </a:rPr>
              <a:t>Concurso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r>
              <a:rPr b="1" lang="es-AR" sz="4800" spc="-1" strike="noStrike">
                <a:solidFill>
                  <a:srgbClr val="ff9933"/>
                </a:solidFill>
                <a:latin typeface="Mistral"/>
              </a:rPr>
              <a:t>NOS-OTROS Y LA PARTICIPA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84280" y="2923920"/>
            <a:ext cx="66168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 Narrow"/>
              </a:rPr>
              <a:t>Un dispositivo que pretende potenciar el lugar de los estudiantes y colaborar en la democratización de las institu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7760" y="1927080"/>
            <a:ext cx="162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 u="sng">
                <a:solidFill>
                  <a:srgbClr val="ffffff"/>
                </a:solidFill>
                <a:uFillTx/>
                <a:latin typeface="Arial Narrow"/>
              </a:rPr>
              <a:t>2009 -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63468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ff9933"/>
                </a:solidFill>
                <a:latin typeface="Gastada"/>
              </a:rPr>
              <a:t>Participación, construcción so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917360"/>
            <a:ext cx="8640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Su sentido es político (tensiona relaciones de poder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Conlleva prácticas colectiv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Implica una dinámica entre el consenso y el conflic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Permite definir problemas comunes y búsquedas de alternativ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es-AR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es-AR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es-AR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i="1" lang="es-AR" sz="3200" spc="-1" strike="noStrike" u="sng">
                <a:solidFill>
                  <a:srgbClr val="ffa953"/>
                </a:solidFill>
                <a:uFillTx/>
                <a:latin typeface="Arial Narrow"/>
              </a:rPr>
              <a:t>Siempre  es con o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0120" y="1412640"/>
            <a:ext cx="7859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 Narrow"/>
              </a:rPr>
              <a:t>Promover la reflexión sobre la participación estudiant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 Narrow"/>
              </a:rPr>
              <a:t>Trabajar la tensión entre las experiencias actuales de participación, las del siglo XX y otras formas posibl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 Narrow"/>
              </a:rPr>
              <a:t>Posibilitar la construcción de formas innovadoras de apropiación y transmisión de temáticas vinculadas a la  particip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ff"/>
                </a:solidFill>
                <a:latin typeface="Arial Narrow"/>
              </a:rPr>
              <a:t>Favorecer la comprensión de la participación estudiantil como un hecho más allá de la propia institu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3504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ff9933"/>
                </a:solidFill>
                <a:latin typeface="Gastada"/>
              </a:rPr>
              <a:t>Objetivos del concurs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3504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ff9933"/>
                </a:solidFill>
                <a:latin typeface="Gastada"/>
              </a:rPr>
              <a:t>Difusión de la propues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1600" y="1566720"/>
            <a:ext cx="676548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 u="sng">
                <a:solidFill>
                  <a:srgbClr val="ffffff"/>
                </a:solidFill>
                <a:uFillTx/>
                <a:latin typeface="Arial Narrow"/>
              </a:rPr>
              <a:t>Act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Jurisdicciones a través de DS y Refer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Directores de ISF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Docentes y estudia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3645000"/>
            <a:ext cx="6408720" cy="19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 u="sng">
                <a:solidFill>
                  <a:srgbClr val="ffa953"/>
                </a:solidFill>
                <a:uFillTx/>
                <a:latin typeface="Arial Narrow"/>
              </a:rPr>
              <a:t>Med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600" spc="-1" strike="noStrike">
                <a:solidFill>
                  <a:srgbClr val="ffa953"/>
                </a:solidFill>
                <a:latin typeface="Arial Narrow"/>
              </a:rPr>
              <a:t>Afiches, página Web, reuniones, carteleras, difusión en medios loc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58920" y="1915920"/>
            <a:ext cx="68515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 Narrow"/>
              </a:rPr>
              <a:t>Estudiantes de todos los ISFD del paí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 Narrow"/>
              </a:rPr>
              <a:t>Grupos hasta 25 estudi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 Narrow"/>
              </a:rPr>
              <a:t>Profesor referente, si es solici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8360" y="364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3504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ff9933"/>
                </a:solidFill>
                <a:latin typeface="Gastada"/>
              </a:rPr>
              <a:t>Participant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320840" y="1773360"/>
            <a:ext cx="73548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ffffff"/>
                </a:solidFill>
                <a:latin typeface="Arial Narrow"/>
              </a:rPr>
              <a:t>Descrip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ffffff"/>
                </a:solidFill>
                <a:latin typeface="Arial Narrow"/>
              </a:rPr>
              <a:t>Fundament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ffffff"/>
                </a:solidFill>
                <a:latin typeface="Arial Narrow"/>
              </a:rPr>
              <a:t>Participan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ffffff"/>
                </a:solidFill>
                <a:latin typeface="Arial Narrow"/>
              </a:rPr>
              <a:t>Cronograma de ac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85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ffffff"/>
                </a:solidFill>
                <a:latin typeface="Arial Narrow"/>
              </a:rPr>
              <a:t>Recursos y presupuesto necesario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63504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ff9933"/>
                </a:solidFill>
                <a:latin typeface="Gastada"/>
              </a:rPr>
              <a:t>Presentación del proyec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71640" y="206064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A cargo del INFD y las jurisdic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Se destinará un máximo de $1.000 por proyecto para gas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Realización de Informes de av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Arial Narrow"/>
              </a:rPr>
              <a:t>Acompañamiento presencial y virtual (Web/correo electrónic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35040"/>
            <a:ext cx="914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800" spc="-1" strike="noStrike">
                <a:solidFill>
                  <a:srgbClr val="ff9933"/>
                </a:solidFill>
                <a:latin typeface="Gastada"/>
              </a:rPr>
              <a:t>Selección, financiamiento y seguimiento de los proy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19:10:43Z</dcterms:created>
  <dc:creator>Usuario</dc:creator>
  <dc:description/>
  <dc:language>en-US</dc:language>
  <cp:lastModifiedBy>fbassi</cp:lastModifiedBy>
  <dcterms:modified xsi:type="dcterms:W3CDTF">2009-09-02T23:28:06Z</dcterms:modified>
  <cp:revision>25</cp:revision>
  <dc:subject/>
  <dc:title>Concurso NOS-OTROS Y LA PARTICIPACIÓN  </dc:title>
</cp:coreProperties>
</file>